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71C-1F81-4DAF-BA24-DAD673C0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AA2-B73A-4A59-B5AC-2C8F8CFA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70E-1F64-4346-9BB7-9C35BBA0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430-1C09-4110-88F2-BDDC9F62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205-4D78-4491-B8C7-32DD436B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CB6-E729-4280-A457-E5144E9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B53-1B02-41F6-9D95-9BC3C70C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ACB-FFD1-494E-BA1E-656C0FF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E4C-C80A-429F-92CC-5A5057A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B92-853E-451F-A262-2DF2553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171-51C5-4A06-BA29-C9627E0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155-FB84-430E-908F-108CC4D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78C6-5C68-407F-BB33-C91C39145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4572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-أن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لكنا-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ُد علينا الآ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ملأ المكان 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ِسَكين عجيب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روحك الحنّان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آن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18b" descr=""/>
          <p:cNvPicPr/>
          <p:nvPr/>
        </p:nvPicPr>
        <p:blipFill>
          <a:blip r:embed="rId1"/>
          <a:stretch/>
        </p:blipFill>
        <p:spPr>
          <a:xfrm>
            <a:off x="0" y="-25560"/>
            <a:ext cx="58672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7464500DVbzFrqSsR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0"/>
            <a:ext cx="3200400" cy="74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قوة روحك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مس 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حتياجاتنا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ضا ترنيمنا  -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آ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ملك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8:09Z</dcterms:modified>
  <cp:revision>4</cp:revision>
  <dc:subject/>
  <dc:title>PowerPoint Presentation</dc:title>
</cp:coreProperties>
</file>